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D628-35D3-42C4-82B9-736AEBFC8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F583-8A03-429A-88B2-B7F6E869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821A-532D-4B81-9F0C-65307DB68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FD9D-4DCF-4729-BAB2-3EB8DC1B9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4517-0615-4EC5-A757-98DEA6CA8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1CB1F-13F4-4B87-9E70-C4DFDE4F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56DA-0CB6-4AC3-9915-2B064A71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6FAB-7EBD-4008-9CE3-4F0840CC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FEC28-7F59-4E55-9AFA-2F004465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2D95-EEDE-4EC8-9DEA-52A08DD3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61E0-3C71-460D-8EBB-7279ECC0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B524-E9E7-4FDD-AA9E-EF9A8493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F426-6F38-47CC-8D5C-459B95D7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7121-EAAC-4EEF-94B1-DEE9E0A6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3009-050D-426B-869C-FCCED453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1955-9890-4DEA-97DE-AAE3C5FDF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1D665-BFC7-403D-BEC9-CA5F67C4F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6A7D-D048-413A-B6BB-45A9541D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6583-2C24-47B7-8D9E-98C4F197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76F4-A658-450D-8B0E-85F8F34F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F72B-FDB1-4A1E-BFCF-C6500846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F2BD-611E-4C77-B6A6-7107675F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B3A8-1B37-404C-841F-4CFB0FA3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9254-8088-43B9-B979-EB2EF928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C840-4523-47DF-B235-767907ACF34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CB12-636E-49F0-8D57-C30AF39E38D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life.uiuc.edu/bio100/lessons/cells_and_organelles.html" TargetMode="External"/><Relationship Id="rId2" Type="http://schemas.openxmlformats.org/officeDocument/2006/relationships/hyperlink" Target="http://kauai.cudenver.edu:3010/0/nutrition.dir/organelle.html" TargetMode="External"/><Relationship Id="rId3" Type="http://schemas.openxmlformats.org/officeDocument/2006/relationships/hyperlink" Target="http://esg-www.mit.edu:8001/esgbio/cb/organelles.html" TargetMode="External"/><Relationship Id="rId4" Type="http://schemas.openxmlformats.org/officeDocument/2006/relationships/hyperlink" Target="http://iip.ucsd.edu/Step/projects95/cellular.Organelles/WHY.HTM" TargetMode="External"/><Relationship Id="rId5" Type="http://schemas.openxmlformats.org/officeDocument/2006/relationships/hyperlink" Target="http://iip.ucsd.edu/Step/projects95/cellular.Organelles/CELLS.HTM" TargetMode="External"/><Relationship Id="rId6" Type="http://schemas.openxmlformats.org/officeDocument/2006/relationships/hyperlink" Target="http://www-class.unl.edu/bios201/group6/cytoskel.html" TargetMode="External"/><Relationship Id="rId7" Type="http://schemas.openxmlformats.org/officeDocument/2006/relationships/hyperlink" Target="http://www.bio.mtu.edu/campbell/eukaryot.htm" TargetMode="External"/><Relationship Id="rId8" Type="http://schemas.openxmlformats.org/officeDocument/2006/relationships/hyperlink" Target="http://www-class.unl.edu/bios201/group6/nucleus.html" TargetMode="External"/><Relationship Id="rId9" Type="http://schemas.openxmlformats.org/officeDocument/2006/relationships/hyperlink" Target="http://www-class.unl.edu/bios201/group6/lyso.html" TargetMode="External"/><Relationship Id="rId10" Type="http://schemas.openxmlformats.org/officeDocument/2006/relationships/hyperlink" Target="http://www-class.unl.edu/bios201/group6/er.html" TargetMode="External"/><Relationship Id="rId11" Type="http://schemas.openxmlformats.org/officeDocument/2006/relationships/hyperlink" Target="http://lenti.med.umn.edu/%7Emwd/back/cell_www/chapter2/ER.html" TargetMode="External"/><Relationship Id="rId12" Type="http://schemas.openxmlformats.org/officeDocument/2006/relationships/hyperlink" Target="http://www-class.unl.edu/bios201/group6/golgi.html" TargetMode="External"/><Relationship Id="rId13" Type="http://schemas.openxmlformats.org/officeDocument/2006/relationships/hyperlink" Target="http://www-class.unl.edu/bios201/group6/centrio.html" TargetMode="External"/><Relationship Id="rId1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Comic Sans MS"/>
              </a:rPr>
              <a:t>The World of Cell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85440" y="3047760"/>
            <a:ext cx="638964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coln Robin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udent Sample - EDU 22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. The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-27-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omic Sans MS"/>
              </a:rPr>
              <a:t>Blood Cel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ood cel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rythrocyte (red blood cel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eukocyte (white blood cel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rombocyte (platelet cel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igin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ll blood cells are created in bone marr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em cells divide in the marr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523880" y="3048120"/>
            <a:ext cx="5867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ite Blood Cel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Leucocyt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eutrophils 40 - 75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ymphocytes 20 - 50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osinophils 5 %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onocytes 1 - 5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asophils 0.5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3581280" cy="25876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410080" y="4572000"/>
            <a:ext cx="26672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Lymphocyt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Make up a large part of the immune defense 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Act in response to antigenic stimula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Are found in the bloodstream, lymphatic tissues and organs of the lymphatic 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Consist of B and T cells, NK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 cells initiate Humoral i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ynthesize and secrete antibod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Kill off Bact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 cells initiate Cell-mediated i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crete cytoki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ytolytic T cells automatically kill infected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cellsalive.com/antibody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Lymphocytes cont…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809880" y="3429000"/>
            <a:ext cx="4616640" cy="26780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57200" y="1752480"/>
            <a:ext cx="4572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atural Killer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ck antigen recep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Regulate the production of blood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B Lymphocyt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-All B cell lymphocytes have a specific receptor for specific antigen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BCR is the unique protein that helps activate B cells, creates the specific binding sites, and allows B cells to recognize other lymphocyte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-Helps neutralize the microb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-Activates phagocyte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-Macrophages are antigen presenting cel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Present antigens to B and T cel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-Two main types of B cel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Memory cel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Formed from activated B cel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Longer life, ready to respond to repeated exposure to a particular antige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Plasma cell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Larger B cells that secrete large amounts of antibod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Antibodies bind to microbes making them easier for phagocytes to attack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B Lymphocytes cont…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B cells can encounter the antigen when it is soluble (lymph or bloodstr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Naive B cells are throughout the body at all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Secreting low levels of antibo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Activated by T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Many antigens are T-depend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Require the combination of B and T cells for “co-stimula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Activation of the highest level of antibody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69200" y="5638680"/>
            <a:ext cx="53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ellsalive.com/antibody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“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dical game-plan”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Results from initially testing shows three large tumors pres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 Each tumor is located within the lymphatic system, specifically on the lymph nod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Results from the blood work showed a decrease in the level of white blood cells, which is usual. The tests showed that the patients platelet level is way dow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I recommend an immediate platelet transfusion, and to keep a close watch on the status of white blood cel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These initial results are leading me to believe you will require stem cell transplant from a matching donor after you undergo radiation and chemotherapy to control the growth of present tum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I am going to create an official report and have all this report reviewed by our medical staff for second opinions. I will also make sure all Doctor’s have received a copy of  the results from your blood work and CAT sc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Referenc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cker, Kleinsmith, Harden. (2000).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he world of the cel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New York: Addison Wesley Longman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ood: The river of life. 2001 July. Retrieved April 30, 2007 from the world wide web: http://library.thinkquest.org/C0115080/?c=w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www.cellsalive.com/cells/3dcell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www.cellsalive.com/cell_cycl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Cell Theory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"/>
              </a:rPr>
              <a:t>In 1824, Rene Dutrochet discovered that "the cell is the fundamental element in the structure of living bodies, forming both animals and plants through juxtaposition.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. all known living things are made up of cell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. the cell is structural &amp; functional unit of all living things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. all cells come from pre-existing cells by division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         (Spontaneous Generation does not occur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. cells contains hereditary information which is passed from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           cell to cell during cell division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. All cells are basically the same in chemical composition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. all energy flow (metabolism &amp; biochemistry) of life occur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           within cells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 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CELL IS THE BASIC UNIT OF LIFE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cellsalive.com/cell_cycle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Prokaryotes vs. Eukaryot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1911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okaryo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 nuclear membrane (genetic material dispersed throughout cytoplas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 membrane-bound organe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imple internal struct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st primitive type of cell (appeared about four billion years ago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7960" y="1719360"/>
            <a:ext cx="42670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ukaryo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membrane surrounding genetic materi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merous membrane-bound organe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mplex internal struct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eared approximately one billion years a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248520" y="4952880"/>
            <a:ext cx="2011320" cy="1676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590920" y="4994280"/>
            <a:ext cx="17524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Intracellular Organell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3848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ucleu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membra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urrounds nucleu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mposed of two lay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Numerous openings for nuclear traff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ol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Spherical sh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Visible when cell is not divi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ains RNA for protein manufacture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romosom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Usually in the form of chromat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ains genetic inform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mposed of DN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Thicken for cellular divis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et number per spec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i.e. 23 pairs for human)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400800" y="15238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1276560" cy="12762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7162920" y="5105520"/>
            <a:ext cx="12762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omic Sans MS"/>
              </a:rPr>
              <a:t>Intracellular Organelles Cont…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5791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ytoplasm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ysoso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Digestive 'plant' for proteins, lipids, and carbohyd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Transports undigested material to cell membrane for remov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Vary in shape depending on process being carried o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ell breaks down if lysosome explodes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loroplast (plant cells only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 plastid usually found in plant cell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ain green chlorophyll where photosynthesis takes 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acuo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Membrane-bound sacs for storage, digestion, and waste remov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ains water solu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ractile vacuoles for water removal (in unicellular organism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248520" y="17524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7620120" y="32004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477120" y="487692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omic Sans MS"/>
              </a:rPr>
              <a:t>Intracellular Organelles Cont…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533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ytoplas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mooth and Rough Endoplasmic Reticulum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Tubular network fused to nuclear membra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Goes through cytoplasm onto cell membra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tores, separates, and serves as cell's transport system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mooth type: lacks riboso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Rough type (pictured): ribosomes embedded in su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buClr>
                <a:srgbClr val="000000"/>
              </a:buClr>
              <a:buSzPct val="7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ibosom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Each cell contains thousand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Miniature 'protein factories'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mposes 25% of cell's ma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tationary type: embedded in rough endoplasmic reticulum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Mobile type: injects proteins directly into cytoplasm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ytoskelet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mposed of microtubul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upports cell and provides sh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Aids movement of materials in and out of cell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019920" y="1695600"/>
            <a:ext cx="1276200" cy="1276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267600" y="5124600"/>
            <a:ext cx="1276200" cy="12762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7467480" y="3200400"/>
            <a:ext cx="127656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omic Sans MS"/>
              </a:rPr>
              <a:t>Intracellular Organelles Cont…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5105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ytoplas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itochondri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Second largest organelle with unique genetic structur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Double-layered outer membrane with inner folds called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rista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Energy-producing chemical reactions take place on crista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rols level of water and other materials in cel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Recycles and decomposes proteins, fats, and carbohydrates, and forms u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entrioles (animal cells only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aired cylindrical organelles near nucl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mposed of nine tubes, each with three tub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Involved in cellular di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Lie at right angles to each 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477120" y="4343400"/>
            <a:ext cx="1895400" cy="18954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omic Sans MS"/>
              </a:rPr>
              <a:t>Intracellular Organelles Cont…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59436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l Surf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ell Wall (plant cells only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Most commonly found in plant cell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rols turg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Extracellular structure surrounding plasma membra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Primary cell wall: extremely elastic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econdary cell wall: forms around primary cell wall after growth is comple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ell Membra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Outer membrane of cell that controls cellular traffic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ains proteins (left, gray) that span through the membrane and allow passage of material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Proteins are surrounded by a phospholipid bi-lay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cellsalive.com/cells/3dcell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172200" y="18288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324480" y="4343400"/>
            <a:ext cx="22100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omic Sans MS"/>
              </a:rPr>
              <a:t>Intracellular Organelles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s to other resourc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lls and Organell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www.life.uiuc.edu/bio100/lessons/cells_and_organelles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Insides of Cell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ttp://kauai.cudenver.edu:3010/0/nutrition.dir/organelle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ctures and Function of Organell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http://esg-www.mit.edu:8001/esgbio/cb/organelles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y Are There Organelles?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4"/>
              </a:rPr>
              <a:t>http://iip.ucsd.edu/Step/projects95/cellular.Organelles/WHY.HTM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llular Organell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5"/>
              </a:rPr>
              <a:t>http://iip.ucsd.edu/Step/projects95/cellular.Organelles/CELLS.HTM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crofilaments and Microtubules--The Cytoskeleton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6"/>
              </a:rPr>
              <a:t>http://www-class.unl.edu/bios201/group6/cytoskel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karyotic Cell Membrane or Plasma Membrane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7"/>
              </a:rPr>
              <a:t>http://www.bio.mtu.edu/campbell/eukaryot.htm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Nucleus, Nucleolus, Nuclear Envelope, and everything you ever wanted to know about DNA (but were afraid to ask)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8"/>
              </a:rPr>
              <a:t>http://www-class.unl.edu/bios201/group6/nucleus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ysosom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9"/>
              </a:rPr>
              <a:t>http://www-class.unl.edu/bios201/group6/lyso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Rough and Smooth Endoplasmic Reticulum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10"/>
              </a:rPr>
              <a:t>http://www-class.unl.edu/bios201/group6/er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Endoplasmic Reticulum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11"/>
              </a:rPr>
              <a:t>http://lenti.med.umn.edu/~mwd/back/cell_www/chapter2/ER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Golgi Bodi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12"/>
              </a:rPr>
              <a:t>http://www-class.unl.edu/bios201/group6/golgi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ntriol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13"/>
              </a:rPr>
              <a:t>http://www-class.unl.edu/bios201/group6/centrio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tochondri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-class.unl.edu/bios201/group6/mitochon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2:28:08Z</dcterms:created>
  <dc:creator>Lincoln</dc:creator>
  <dc:description/>
  <dc:language>en-US</dc:language>
  <cp:lastModifiedBy>Lincoln</cp:lastModifiedBy>
  <dcterms:modified xsi:type="dcterms:W3CDTF">2008-03-31T16:28:15Z</dcterms:modified>
  <cp:revision>57</cp:revision>
  <dc:subject/>
  <dc:title>The World of Cells</dc:title>
</cp:coreProperties>
</file>